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54A7-1522-4A5E-8A73-D52255A92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one copy of the exam is given to the group (the same one that they just completed individually) and a single answer form is generated.  This forces all students in the group to work closely together.  Questions are read aloud, discussed, and an answer drawn on the basis of consen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9D18-61A2-4F79-91D5-E049E8DD9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D00-15BA-4C17-A717-A6C6E3B5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052-6553-4447-B905-A0ACEC7B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275-499A-4A59-9097-7F6D320D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7DC-D27A-4E56-BED7-914FB59D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B6A-B928-43CE-B915-E1849B13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94B-32EA-44FF-A213-17F4EDC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7C9-30D7-47E7-98FA-BFE7D54B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D6D-47E2-411C-BC0D-B77C04B1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226-63A9-4EC2-8D4F-56997D34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1C7-E241-48DE-AD8D-47B9C165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898-F18A-46D2-993A-E748FBF7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E8A-EF0D-4931-98D0-60B817B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723B-EEB1-4229-81D5-502D7B862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ing Many Minds to Enhance 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76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na Hartney, Cal Poly Pom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C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Individual Exam 1"/>
          <p:cNvPicPr/>
          <p:nvPr/>
        </p:nvPicPr>
        <p:blipFill>
          <a:blip r:embed="rId1"/>
          <a:stretch/>
        </p:blipFill>
        <p:spPr>
          <a:xfrm>
            <a:off x="457200" y="2743200"/>
            <a:ext cx="3962520" cy="293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Group Exam 5"/>
          <p:cNvPicPr/>
          <p:nvPr/>
        </p:nvPicPr>
        <p:blipFill>
          <a:blip r:embed="rId2"/>
          <a:stretch/>
        </p:blipFill>
        <p:spPr>
          <a:xfrm>
            <a:off x="4572000" y="2743200"/>
            <a:ext cx="4038480" cy="2932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457200" y="5867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urning isolated learning eff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648320" y="5867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o collaborative group eff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 informal study groups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ticipation is volunt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s form without instructor invol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st of at least 3 and not more than 7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et for at least 1 hr on 2 separate occasions between ex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lete a group roster form each time they me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s determine their own meeting agenda (study guides, practice questions, discussions of difficult concepts, oral quizz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y be formed, reconstituted, or dissolved before each ex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oup exam pay-off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ber, quiet exam periods turn into energetic and raucous occas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earn bonus points depending on their group’s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mediately seeing test questions a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ime a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to gauge their individual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rn from their individual mist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sconceptions to be dispe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st days are less anxiety ridden, more fun, and another opportunity to lear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ccept responsibility for their failures, as well as success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individual performance enhanced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knows?  I do know tha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articipation rates are high (up to 83%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n average of 74% (13 sections) of students agree or strongly agree that study groups are an effective and fun way of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Up to 73% of students continue to participate in study groups even when no rewards are provi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esides a little bit of extra book keeping, this is a win-win strateg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0:17:29Z</dcterms:created>
  <dc:creator>Pat</dc:creator>
  <dc:description/>
  <dc:language>en-US</dc:language>
  <cp:lastModifiedBy>Pat</cp:lastModifiedBy>
  <dcterms:modified xsi:type="dcterms:W3CDTF">2010-03-17T21:52:35Z</dcterms:modified>
  <cp:revision>11</cp:revision>
  <dc:subject/>
  <dc:title>Using Many Minds to Enhance Learning</dc:title>
</cp:coreProperties>
</file>